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8EF1-B5E0-417D-A96A-97296DC83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CE4B-309A-45DF-9B25-365538015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5C47-2E84-4577-9568-220E0CFB2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EAFF-8372-4FE7-B2B3-CDD4C627B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AB23-4535-476F-8CB6-1456903DD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76B5-485B-4569-9F39-DA5A8EAAD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3194-CDC4-4CE3-9812-8B7F96419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3E05-1615-40A8-8AAA-49027A7CC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8D22-DD42-412F-B033-42AB67896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DCF0-55C5-46A0-97B9-D21AA279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04E9-3594-4C08-B5D3-9ED9A5BA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2489-1352-49B5-B66A-2CB62BB5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4CF54-5BFE-4F5E-B200-F593224EE4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Name Organizational Char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533520" y="1490760"/>
            <a:ext cx="8076240" cy="5184000"/>
            <a:chOff x="533520" y="1490760"/>
            <a:chExt cx="8076240" cy="5184000"/>
          </a:xfrm>
        </p:grpSpPr>
        <p:cxnSp>
          <p:nvCxnSpPr>
            <p:cNvPr id="43" name="_s3125"/>
            <p:cNvCxnSpPr>
              <a:stCxn id="44" idx="0"/>
              <a:endCxn id="45" idx="2"/>
            </p:cNvCxnSpPr>
            <p:nvPr/>
          </p:nvCxnSpPr>
          <p:spPr>
            <a:xfrm flipV="1" rot="16200000">
              <a:off x="5906520" y="3926160"/>
              <a:ext cx="471600" cy="3141000"/>
            </a:xfrm>
            <a:prstGeom prst="bentConnector3">
              <a:avLst>
                <a:gd name="adj1" fmla="val 499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6" name="_s3126"/>
            <p:cNvCxnSpPr>
              <a:stCxn id="47" idx="0"/>
              <a:endCxn id="45" idx="2"/>
            </p:cNvCxnSpPr>
            <p:nvPr/>
          </p:nvCxnSpPr>
          <p:spPr>
            <a:xfrm flipV="1" rot="16200000">
              <a:off x="4859640" y="4973040"/>
              <a:ext cx="471600" cy="1047240"/>
            </a:xfrm>
            <a:prstGeom prst="bentConnector3">
              <a:avLst>
                <a:gd name="adj1" fmla="val 499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8" name="_s3127"/>
            <p:cNvCxnSpPr>
              <a:stCxn id="49" idx="0"/>
              <a:endCxn id="45" idx="2"/>
            </p:cNvCxnSpPr>
            <p:nvPr/>
          </p:nvCxnSpPr>
          <p:spPr>
            <a:xfrm flipH="1" flipV="1" rot="5400000">
              <a:off x="3812040" y="4973040"/>
              <a:ext cx="471600" cy="1047600"/>
            </a:xfrm>
            <a:prstGeom prst="bentConnector3">
              <a:avLst>
                <a:gd name="adj1" fmla="val 499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" name="_s3128"/>
            <p:cNvCxnSpPr>
              <a:stCxn id="51" idx="0"/>
              <a:endCxn id="45" idx="2"/>
            </p:cNvCxnSpPr>
            <p:nvPr/>
          </p:nvCxnSpPr>
          <p:spPr>
            <a:xfrm flipH="1" flipV="1" rot="5400000">
              <a:off x="2765160" y="3926160"/>
              <a:ext cx="471600" cy="3141360"/>
            </a:xfrm>
            <a:prstGeom prst="bentConnector3">
              <a:avLst>
                <a:gd name="adj1" fmla="val 499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2" name="_s3129"/>
            <p:cNvCxnSpPr>
              <a:stCxn id="53" idx="0"/>
              <a:endCxn id="54" idx="2"/>
            </p:cNvCxnSpPr>
            <p:nvPr/>
          </p:nvCxnSpPr>
          <p:spPr>
            <a:xfrm flipV="1" rot="16200000">
              <a:off x="5906160" y="3558960"/>
              <a:ext cx="471960" cy="1047600"/>
            </a:xfrm>
            <a:prstGeom prst="bentConnector3">
              <a:avLst>
                <a:gd name="adj1" fmla="val 4992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5" name="_s3130"/>
            <p:cNvCxnSpPr>
              <a:stCxn id="45" idx="0"/>
              <a:endCxn id="54" idx="2"/>
            </p:cNvCxnSpPr>
            <p:nvPr/>
          </p:nvCxnSpPr>
          <p:spPr>
            <a:xfrm flipH="1" flipV="1" rot="5400000">
              <a:off x="4859280" y="3559320"/>
              <a:ext cx="471960" cy="1047240"/>
            </a:xfrm>
            <a:prstGeom prst="bentConnector3">
              <a:avLst>
                <a:gd name="adj1" fmla="val 4992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" name="_s3131"/>
            <p:cNvCxnSpPr>
              <a:stCxn id="54" idx="0"/>
              <a:endCxn id="57" idx="2"/>
            </p:cNvCxnSpPr>
            <p:nvPr/>
          </p:nvCxnSpPr>
          <p:spPr>
            <a:xfrm rot="16200000">
              <a:off x="5383080" y="2668680"/>
              <a:ext cx="47160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7" name="_s3132"/>
            <p:cNvSpPr/>
            <p:nvPr/>
          </p:nvSpPr>
          <p:spPr>
            <a:xfrm>
              <a:off x="4721400" y="1490760"/>
              <a:ext cx="1794600" cy="942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roject Sponso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3133"/>
            <p:cNvSpPr/>
            <p:nvPr/>
          </p:nvSpPr>
          <p:spPr>
            <a:xfrm>
              <a:off x="4721400" y="2904480"/>
              <a:ext cx="1794600" cy="942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roject Manag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_s3134"/>
            <p:cNvSpPr/>
            <p:nvPr/>
          </p:nvSpPr>
          <p:spPr>
            <a:xfrm>
              <a:off x="3674520" y="4318560"/>
              <a:ext cx="1794600" cy="942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eam Lead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3135"/>
            <p:cNvSpPr/>
            <p:nvPr/>
          </p:nvSpPr>
          <p:spPr>
            <a:xfrm>
              <a:off x="5768640" y="4318560"/>
              <a:ext cx="1794600" cy="9388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uppli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roject Manager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3136"/>
            <p:cNvSpPr/>
            <p:nvPr/>
          </p:nvSpPr>
          <p:spPr>
            <a:xfrm>
              <a:off x="533520" y="5732280"/>
              <a:ext cx="1794600" cy="942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eam 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3137"/>
            <p:cNvSpPr/>
            <p:nvPr/>
          </p:nvSpPr>
          <p:spPr>
            <a:xfrm>
              <a:off x="2627280" y="5732280"/>
              <a:ext cx="1794600" cy="942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eam 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3138"/>
            <p:cNvSpPr/>
            <p:nvPr/>
          </p:nvSpPr>
          <p:spPr>
            <a:xfrm>
              <a:off x="4721400" y="5732280"/>
              <a:ext cx="1794600" cy="938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eam 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3139"/>
            <p:cNvSpPr/>
            <p:nvPr/>
          </p:nvSpPr>
          <p:spPr>
            <a:xfrm>
              <a:off x="6815160" y="5732280"/>
              <a:ext cx="1794600" cy="942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eam 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773760" y="2223000"/>
              <a:ext cx="1759320" cy="7495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ject Champ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590200" y="2151000"/>
              <a:ext cx="1794600" cy="942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ject Steer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mmitte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4419720" y="2666880"/>
            <a:ext cx="2361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7T19:27:31Z</dcterms:created>
  <dc:creator>schwalbe</dc:creator>
  <dc:description/>
  <dc:language>en-US</dc:language>
  <cp:lastModifiedBy>schwalbe</cp:lastModifiedBy>
  <dcterms:modified xsi:type="dcterms:W3CDTF">2005-10-14T18:09:55Z</dcterms:modified>
  <cp:revision>5</cp:revision>
  <dc:subject/>
  <dc:title>Slide 1</dc:title>
</cp:coreProperties>
</file>